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5AA408-DCEB-4E79-85E5-ED898F2BA81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6DF8B-0D44-4A96-AAEA-3C21F978D33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1120" y="4717800"/>
            <a:ext cx="5457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746068-956A-4607-888C-7B3D43A734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71B-869F-4D26-9527-4020004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0F3-B055-4ED4-8AFA-13650289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8B1-63C1-445E-9E7C-37B94A53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06A-F76F-4228-8319-6DC5FADF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7A1-D64D-4E32-A09A-C8DA16B3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F25C-EAF2-447F-A6DD-1FDDCCBA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31A9-5864-4739-ADBF-CE919BF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92B1-4CCC-4798-B8DD-9323B40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ACF-F5B6-4669-84A5-1B7D680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607-1860-458A-8578-700522A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FA9B-5E39-499E-838A-F4B6810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F9B-D1E6-4E2C-8977-EDD70A19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A7DB-AC26-4A06-97A9-3750F18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C10-178F-45AD-BA2A-BD54A7C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81D3-2227-41DB-A487-5C6C423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2164-1DD5-4E6E-9989-4E77BAC5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026-5D18-4C8F-A87F-CBBD5E49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1C2-3A83-467A-9B67-20202F6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483-D57D-4523-B2C8-895A68A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0A7-0ABA-4C55-B2DE-DD48DF0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82E-34B8-4AEF-A707-3A84E8B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600-3FC4-4038-BDCA-A86E26A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33B-3F59-4583-A2ED-71DBA1E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7F8-35E6-45C0-B090-53AE2F1B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A36-429A-4005-9A96-BB9BA8980B7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51C-E590-49FF-9C62-B813EE18D84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250920" y="981000"/>
            <a:ext cx="871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993366"/>
                </a:solidFill>
                <a:latin typeface="Calibri"/>
              </a:rPr>
              <a:t>Long term senior policy approach in Pol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3366"/>
                </a:solidFill>
                <a:latin typeface="Calibri"/>
              </a:rPr>
              <a:t>for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arzena Breza PhD, Director of the Department of Senior Policy, </a:t>
            </a:r>
            <a:br>
              <a:rPr sz="2000"/>
            </a:br>
            <a:r>
              <a:rPr b="1" i="1" lang="pl-PL" sz="2000" spc="-1" strike="noStrike">
                <a:solidFill>
                  <a:srgbClr val="993366"/>
                </a:solidFill>
                <a:latin typeface="Calibri"/>
              </a:rPr>
              <a:t>Ministry of Labour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Calibri"/>
              </a:rPr>
              <a:t>Seminar on active age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Project „Latvia: </a:t>
            </a: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Developing a Comprehensive Active Ageing Strate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alibri"/>
              </a:rPr>
              <a:t>for Longer and Better Working Lives</a:t>
            </a:r>
            <a:r>
              <a:rPr b="1" lang="pl-PL" sz="1400" spc="-1" strike="noStrike">
                <a:solidFill>
                  <a:srgbClr val="0033cc"/>
                </a:solidFill>
                <a:latin typeface="Calibri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91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551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33cc"/>
                </a:solidFill>
                <a:latin typeface="Calibri"/>
              </a:rPr>
              <a:t>Riga, April 7th 2014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9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2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1"/>
          <p:cNvSpPr/>
          <p:nvPr/>
        </p:nvSpPr>
        <p:spPr>
          <a:xfrm>
            <a:off x="942840" y="2949480"/>
            <a:ext cx="71503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he Programm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s based on open calls for proposal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organisations that operat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the area of public benef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n-governmental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rganizations run by churches and religious com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cial cooper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sociations of local government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panies (including sport clubs) which generate profits intended only to cover their  statutory objective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private enterprises are exclud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6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6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1"/>
          <p:cNvSpPr/>
          <p:nvPr/>
        </p:nvSpPr>
        <p:spPr>
          <a:xfrm>
            <a:off x="468360" y="2276640"/>
            <a:ext cx="7848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2 edition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f call for proposals (in 2012 and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3200 offer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1700 projects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o-fin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tal budget: PLN 60 mln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14 mln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bsidies vary from PLN 20 000 to 200 0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EUR 4700 to 47800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lying organizations are obliged to cover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 least 10%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f thier projects’ value (financial or human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7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7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ummary of the Programme 2012-2013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1033560" y="2855880"/>
            <a:ext cx="71499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projects were submitted und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iorities I on educ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40%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I on integration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iorities III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participation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d IV o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cial service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re scarcely represented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(about 10% in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st projects were based on integration or direct individual services. More emphasis should be put on </a:t>
            </a:r>
            <a:r>
              <a:rPr b="1" i="1" lang="pl-PL" sz="1800" spc="-1" strike="noStrike">
                <a:solidFill>
                  <a:srgbClr val="ff0000"/>
                </a:solidFill>
                <a:latin typeface="Calibri"/>
              </a:rPr>
              <a:t>active participation</a:t>
            </a: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. volunte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8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enior Pa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"/>
          <p:cNvSpPr/>
          <p:nvPr/>
        </p:nvSpPr>
        <p:spPr>
          <a:xfrm>
            <a:off x="541440" y="2637000"/>
            <a:ext cx="765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for 50+ - labour market participation of 50+ and 6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4-2020 (a. 70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enior policy approach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ctive participation of socia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aśnienie prostokątne 2"/>
          <p:cNvSpPr/>
          <p:nvPr/>
        </p:nvSpPr>
        <p:spPr>
          <a:xfrm>
            <a:off x="6659640" y="4869000"/>
            <a:ext cx="1536480" cy="1584360"/>
          </a:xfrm>
          <a:prstGeom prst="wedgeRectCallout">
            <a:avLst>
              <a:gd name="adj1" fmla="val -93361"/>
              <a:gd name="adj2" fmla="val -567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useful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for the New financial perspective 2014-2020 on reg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8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ment Programme for Social Participation of Senior Citizens for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4000" y="2637000"/>
            <a:ext cx="8569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he Programme was introduced in December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ased on the results of its previous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2014: a. 1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otal budget in 2014-2020: a. 7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11280" y="981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3366"/>
                </a:solidFill>
                <a:latin typeface="Calibri"/>
              </a:rPr>
              <a:t>Edition 2014 of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19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24000" y="1700280"/>
            <a:ext cx="8640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Budget limitations were introduced within each priority of the Programme to provide wider diversity of the projects co-financed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. Education of senior citizens – 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activity promoting integration within senior generation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between generations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II. Social participation of senior citizens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iority IV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services for older citizens (external)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1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0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Long term senior policy approach in Pola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468360" y="227664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mework document introduced in December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cument is composed of following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    Demographical situation in Poland – current state, main challen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     Health and independent liv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     Professional activity of people over age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     Educational, social and cultural activity of senior citiz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     silver econo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     intergenerational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207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210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Active ageing policy vs. European Social Fund 2014-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324000" y="328464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2543040"/>
            <a:ext cx="871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ctive and healty ageing priority – our mai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Care services – standards, trainings for caregivers, ageing in place approach, ICT in care, involvement of people 50+, L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asearch initiatives on age fiendly work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Other initiatives on regional level (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7"/>
          <p:cNvSpPr/>
          <p:nvPr/>
        </p:nvSpPr>
        <p:spPr>
          <a:xfrm>
            <a:off x="1547640" y="3216240"/>
            <a:ext cx="576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f497d"/>
                </a:solidFill>
                <a:latin typeface="Calibri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Marzena Breza (marzena.breza@mpips.gov.p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Olga Richter (olga.richter@mpips.gov.pl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www.mpips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f497d"/>
                </a:solidFill>
                <a:latin typeface="Calibri"/>
              </a:rPr>
              <a:t>www.senior.gov.p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Title 1"/>
          <p:cNvGrpSpPr/>
          <p:nvPr/>
        </p:nvGrpSpPr>
        <p:grpSpPr>
          <a:xfrm>
            <a:off x="0" y="0"/>
            <a:ext cx="5797440" cy="907920"/>
            <a:chOff x="0" y="0"/>
            <a:chExt cx="5797440" cy="907920"/>
          </a:xfrm>
        </p:grpSpPr>
        <p:pic>
          <p:nvPicPr>
            <p:cNvPr id="215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96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99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ole tekstowe 9"/>
          <p:cNvSpPr/>
          <p:nvPr/>
        </p:nvSpPr>
        <p:spPr>
          <a:xfrm>
            <a:off x="468360" y="227664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emographic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Y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2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ish Government initiatives for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 Funds for 2014-2020 vs. Demograph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0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19280" y="4221000"/>
          <a:ext cx="5897520" cy="731880"/>
        </p:xfrm>
        <a:graphic>
          <a:graphicData uri="http://schemas.openxmlformats.org/drawingml/2006/table">
            <a:tbl>
              <a:tblPr/>
              <a:tblGrid>
                <a:gridCol w="1006560"/>
                <a:gridCol w="904680"/>
                <a:gridCol w="873360"/>
                <a:gridCol w="682560"/>
                <a:gridCol w="766800"/>
                <a:gridCol w="873000"/>
                <a:gridCol w="79056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09" name="pole tekstowe 3"/>
          <p:cNvSpPr/>
          <p:nvPr/>
        </p:nvSpPr>
        <p:spPr>
          <a:xfrm>
            <a:off x="1187280" y="2781360"/>
            <a:ext cx="748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ble 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proportion of age groups in EU-27 and in Poland, in 2011 (in %) (as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1.12.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urce: own study based on Eurostat (demo_pjanin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1547640" y="5157720"/>
            <a:ext cx="60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asing </a:t>
            </a:r>
            <a:r>
              <a:rPr b="1" lang="en-GB" sz="1400" spc="-1" strike="noStrike">
                <a:solidFill>
                  <a:srgbClr val="7030a0"/>
                </a:solidFill>
                <a:latin typeface="Calibri"/>
              </a:rPr>
              <a:t>life expectancy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average for women 8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72,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for men in 20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aśnienie prostokątne 2"/>
          <p:cNvSpPr/>
          <p:nvPr/>
        </p:nvSpPr>
        <p:spPr>
          <a:xfrm>
            <a:off x="7451640" y="4941720"/>
            <a:ext cx="1584360" cy="1079640"/>
          </a:xfrm>
          <a:prstGeom prst="wedgeRectCallout">
            <a:avLst>
              <a:gd name="adj1" fmla="val -68671"/>
              <a:gd name="adj2" fmla="val -48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elatively ’young’ as for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16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Demographic situation in Po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– </a:t>
            </a: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basic fact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1332000" y="2565360"/>
            <a:ext cx="684036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able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ulation prognostics 2010–2035 according to age group (in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: Source: own study based on data from Central Statistical Office, Prognoza ludności na lata 2008–203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06400" y="3427560"/>
          <a:ext cx="8229600" cy="1280880"/>
        </p:xfrm>
        <a:graphic>
          <a:graphicData uri="http://schemas.openxmlformats.org/drawingml/2006/table">
            <a:tbl>
              <a:tblPr/>
              <a:tblGrid>
                <a:gridCol w="1282680"/>
                <a:gridCol w="1157400"/>
                <a:gridCol w="1158840"/>
                <a:gridCol w="1157400"/>
                <a:gridCol w="1157040"/>
                <a:gridCol w="1158840"/>
                <a:gridCol w="11574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–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–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20" name="pole tekstowe 4"/>
          <p:cNvSpPr/>
          <p:nvPr/>
        </p:nvSpPr>
        <p:spPr>
          <a:xfrm>
            <a:off x="1116000" y="5084640"/>
            <a:ext cx="70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edian of age will increase fro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8 in 2010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48 in 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population dependency rati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increase fro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people in post-working 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 100 people in working age in 2010 to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6 people in 2035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2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25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1"/>
          <p:cNvSpPr/>
          <p:nvPr/>
        </p:nvSpPr>
        <p:spPr>
          <a:xfrm>
            <a:off x="1116000" y="3762360"/>
            <a:ext cx="7149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Y 2012 in Poland in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centr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inistries and other central public bod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n region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regional author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1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vents on local leve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local NGO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vents organisied by the Universities of Third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80 event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re included in the official calender of EY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0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European Year for Active Ageing and Solidarity Between Generations 2012 in Poland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az 3" descr="ey_banner_en.png"/>
          <p:cNvPicPr/>
          <p:nvPr/>
        </p:nvPicPr>
        <p:blipFill>
          <a:blip r:embed="rId3"/>
          <a:stretch/>
        </p:blipFill>
        <p:spPr>
          <a:xfrm>
            <a:off x="3492360" y="2662200"/>
            <a:ext cx="2684520" cy="5745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"/>
          <p:cNvSpPr/>
          <p:nvPr/>
        </p:nvSpPr>
        <p:spPr>
          <a:xfrm>
            <a:off x="1116000" y="3573360"/>
            <a:ext cx="71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Y 2012 in Pol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ctive ageing issues were introduced in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de public da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Year of Third Age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rst steps were taken to establis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vernment action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 the field of active and healthy ag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artment of Senior Polic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established within the Ministry of Labour and Soci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Government Programme for Social Participation of Older Citizens 2012-2013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38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1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olish Government initiatives for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"/>
          <p:cNvSpPr/>
          <p:nvPr/>
        </p:nvSpPr>
        <p:spPr>
          <a:xfrm>
            <a:off x="611280" y="2349360"/>
            <a:ext cx="7654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overnment Program on social participation 2012-2013 (15 mln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ouncil for Senior Policy – advisory body to the Minister (NGOs, social partners, government central, regional and local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45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48" name="Tytuł 1"/>
          <p:cNvSpPr/>
          <p:nvPr/>
        </p:nvSpPr>
        <p:spPr>
          <a:xfrm>
            <a:off x="0" y="113364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Governement Programme for Social Participation of Senior Citizens 201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1"/>
          <p:cNvSpPr/>
          <p:nvPr/>
        </p:nvSpPr>
        <p:spPr>
          <a:xfrm>
            <a:off x="942840" y="2949480"/>
            <a:ext cx="715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s introduced in August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ts main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ustain activity of seniors after quitting labour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provide them conditions for sharing their knowledge, skills and experience within their generation as well as with oth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mpower people experiencing dependency due to health reasons and other obsta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help them play new significant social roles – promoting self-help and self-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Title 1"/>
          <p:cNvGrpSpPr/>
          <p:nvPr/>
        </p:nvGrpSpPr>
        <p:grpSpPr>
          <a:xfrm>
            <a:off x="6480" y="6480"/>
            <a:ext cx="5797440" cy="907920"/>
            <a:chOff x="6480" y="6480"/>
            <a:chExt cx="5797440" cy="907920"/>
          </a:xfrm>
        </p:grpSpPr>
        <p:pic>
          <p:nvPicPr>
            <p:cNvPr id="152" name="Title 1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57974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480" y="6480"/>
              <a:ext cx="5796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" descr="C:\Users\Hania\Downloads\mpips_jpg.jpg"/>
          <p:cNvPicPr/>
          <p:nvPr/>
        </p:nvPicPr>
        <p:blipFill>
          <a:blip r:embed="rId2"/>
          <a:stretch/>
        </p:blipFill>
        <p:spPr>
          <a:xfrm>
            <a:off x="5508720" y="44280"/>
            <a:ext cx="3635280" cy="776520"/>
          </a:xfrm>
          <a:prstGeom prst="rect">
            <a:avLst/>
          </a:prstGeom>
          <a:ln w="0">
            <a:noFill/>
          </a:ln>
        </p:spPr>
      </p:pic>
      <p:sp>
        <p:nvSpPr>
          <p:cNvPr id="155" name="Tytuł 1"/>
          <p:cNvSpPr/>
          <p:nvPr/>
        </p:nvSpPr>
        <p:spPr>
          <a:xfrm>
            <a:off x="12600" y="911160"/>
            <a:ext cx="9036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93366"/>
                </a:solidFill>
                <a:latin typeface="Calibri"/>
              </a:rPr>
              <a:t>Priorities and actions of the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4000" y="2855880"/>
            <a:ext cx="85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6920" y="2133720"/>
          <a:ext cx="7561440" cy="4751280"/>
        </p:xfrm>
        <a:graphic>
          <a:graphicData uri="http://schemas.openxmlformats.org/drawingml/2006/table">
            <a:tbl>
              <a:tblPr/>
              <a:tblGrid>
                <a:gridCol w="1973520"/>
                <a:gridCol w="5587920"/>
              </a:tblGrid>
              <a:tr h="1346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duc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verse educational offer providing knowledge in different areas (including law, economy, health, prophylaxis, sport, tourism and new technologies), educational programs on active age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assi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volunteering of competenc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on of educational offer among senio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ting integration within senior generation and between gen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including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ysical activity of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tourism and recreatio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gaging different generations in cultural activit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ilding social networks based on intergenerational volunteering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adicating e-exclus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participation of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’ activity for local communities (development of civil society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y supporting participation in social/public lif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o-help network (to build positive image of ageing)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ority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 services for 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en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exter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0" bIns="0" anchor="ctr">
                      <a:noAutofit/>
                    </a:bodyPr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ining of volunteers and assistants in field of helping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lder citiz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various forms of self-hel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families in help for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io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ased on voluntary assistanc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rease of access to social services in various areas: custody, culture, education, sport and touris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8:14:23Z</dcterms:created>
  <dc:creator>Hania</dc:creator>
  <dc:description/>
  <dc:language>en-US</dc:language>
  <cp:lastModifiedBy>Marzena Breza</cp:lastModifiedBy>
  <cp:lastPrinted>2014-04-03T14:09:38Z</cp:lastPrinted>
  <dcterms:modified xsi:type="dcterms:W3CDTF">2014-04-07T08:33:45Z</dcterms:modified>
  <cp:revision>433</cp:revision>
  <dc:subject/>
  <dc:title>Slide 1</dc:title>
</cp:coreProperties>
</file>